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C14F-5403-49C9-BE60-772B5B294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5828-C7A5-448A-BA12-811CA1F91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9EAB-1B4C-48E7-A2E7-362B9876A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8EDF-EB07-46C4-BEA2-C83269F73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5297-33E3-4F33-A9B6-5B5DB599B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B3FF-C4A9-4110-8B3B-7BCD23500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C8FC-B8D4-4203-9514-A5B9AA5D5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D03E-5DC9-4C81-8F06-C29059E98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2CC1-A591-4E2E-9832-FCDCD2C6E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7DEB-C6B6-4592-9329-286BC456C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F152-0BEF-4C47-9B85-D2987B4AA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F5C5-A98A-41E4-B5F1-226FFDE27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5DF1-EBA8-4300-89D1-07A7D0940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451E-2EC1-4474-A628-0E649F9A9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9E4B-C5E1-4131-90C7-0375631DD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736A-8FE7-41B0-8C54-41532669E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E40-3E57-49AE-9D71-F36F9E3F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A1EF-3BB3-49CD-A9AD-503EAFD3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70D-ACD8-4864-8CE5-F52B1C32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489A-488A-442D-ACB6-3F942338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732-0A4F-4F67-8A1C-4AF8F4CC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E538-2574-4852-A645-CA68E6E1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B484-AC13-4C9C-9347-9DC0B242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07A8-F996-4895-8942-EEDFB4FB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5102-7239-4727-A308-BB757EE9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B68C-E50C-4942-B203-6D449712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67FF-6703-49EC-A4B5-EA6F1561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2D55-111F-4756-AA67-78B37B56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BB05-2B2C-4A04-9BC0-2370FF736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ruent Tri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Screen shot 2010-12-05 at 2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Screen shot 2010-12-13 at 8"/>
          <p:cNvPicPr/>
          <p:nvPr/>
        </p:nvPicPr>
        <p:blipFill>
          <a:blip r:embed="rId1"/>
          <a:stretch/>
        </p:blipFill>
        <p:spPr>
          <a:xfrm>
            <a:off x="0" y="231840"/>
            <a:ext cx="9144000" cy="62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Screen shot 2010-12-05 at 2"/>
          <p:cNvPicPr/>
          <p:nvPr/>
        </p:nvPicPr>
        <p:blipFill>
          <a:blip r:embed="rId1"/>
          <a:stretch/>
        </p:blipFill>
        <p:spPr>
          <a:xfrm>
            <a:off x="0" y="1231920"/>
            <a:ext cx="91440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Screen shot 2010-12-13 at 8"/>
          <p:cNvPicPr/>
          <p:nvPr/>
        </p:nvPicPr>
        <p:blipFill>
          <a:blip r:embed="rId1"/>
          <a:stretch/>
        </p:blipFill>
        <p:spPr>
          <a:xfrm>
            <a:off x="0" y="1174680"/>
            <a:ext cx="914400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Screen shot 2010-12-05 at 2"/>
          <p:cNvPicPr/>
          <p:nvPr/>
        </p:nvPicPr>
        <p:blipFill>
          <a:blip r:embed="rId1"/>
          <a:stretch/>
        </p:blipFill>
        <p:spPr>
          <a:xfrm>
            <a:off x="0" y="412920"/>
            <a:ext cx="91440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Screen shot 2010-12-13 at 8"/>
          <p:cNvPicPr/>
          <p:nvPr/>
        </p:nvPicPr>
        <p:blipFill>
          <a:blip r:embed="rId1"/>
          <a:stretch/>
        </p:blipFill>
        <p:spPr>
          <a:xfrm>
            <a:off x="533520" y="304920"/>
            <a:ext cx="861048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Screen shot 2010-12-05 at 2"/>
          <p:cNvPicPr/>
          <p:nvPr/>
        </p:nvPicPr>
        <p:blipFill>
          <a:blip r:embed="rId1"/>
          <a:stretch/>
        </p:blipFill>
        <p:spPr>
          <a:xfrm>
            <a:off x="0" y="44136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Screen shot 2010-12-13 at 8"/>
          <p:cNvPicPr/>
          <p:nvPr/>
        </p:nvPicPr>
        <p:blipFill>
          <a:blip r:embed="rId1"/>
          <a:stretch/>
        </p:blipFill>
        <p:spPr>
          <a:xfrm>
            <a:off x="0" y="811080"/>
            <a:ext cx="914400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Screen shot 2010-12-05 at 2"/>
          <p:cNvPicPr/>
          <p:nvPr/>
        </p:nvPicPr>
        <p:blipFill>
          <a:blip r:embed="rId1"/>
          <a:stretch/>
        </p:blipFill>
        <p:spPr>
          <a:xfrm>
            <a:off x="685800" y="1806480"/>
            <a:ext cx="77724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0-12-05 at 2"/>
          <p:cNvPicPr/>
          <p:nvPr/>
        </p:nvPicPr>
        <p:blipFill>
          <a:blip r:embed="rId1"/>
          <a:stretch/>
        </p:blipFill>
        <p:spPr>
          <a:xfrm>
            <a:off x="1633680" y="609480"/>
            <a:ext cx="5876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u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figures are congruent if they have exactly the same size and sha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Screen shot 2010-12-05 at 2"/>
          <p:cNvPicPr/>
          <p:nvPr/>
        </p:nvPicPr>
        <p:blipFill>
          <a:blip r:embed="rId1"/>
          <a:stretch/>
        </p:blipFill>
        <p:spPr>
          <a:xfrm>
            <a:off x="1944720" y="609480"/>
            <a:ext cx="5254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Screen shot 2010-12-05 at 2"/>
          <p:cNvPicPr/>
          <p:nvPr/>
        </p:nvPicPr>
        <p:blipFill>
          <a:blip r:embed="rId1"/>
          <a:stretch/>
        </p:blipFill>
        <p:spPr>
          <a:xfrm>
            <a:off x="779400" y="609480"/>
            <a:ext cx="758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sponding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wo figures are congruent, the corresponding angles are the angles that are in corresponding positions and are congrue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sponding S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wo figures are congruent, the corresponding sides are the sides that are in corresponding positions and are congru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Screen shot 2010-12-05 at 2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Screen shot 2010-12-05 at 2"/>
          <p:cNvPicPr/>
          <p:nvPr/>
        </p:nvPicPr>
        <p:blipFill>
          <a:blip r:embed="rId1"/>
          <a:stretch/>
        </p:blipFill>
        <p:spPr>
          <a:xfrm>
            <a:off x="0" y="1798560"/>
            <a:ext cx="91440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Screen shot 2010-12-13 at 8"/>
          <p:cNvPicPr/>
          <p:nvPr/>
        </p:nvPicPr>
        <p:blipFill>
          <a:blip r:embed="rId1"/>
          <a:stretch/>
        </p:blipFill>
        <p:spPr>
          <a:xfrm>
            <a:off x="0" y="1417680"/>
            <a:ext cx="914400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Screen shot 2010-12-05 at 2"/>
          <p:cNvPicPr/>
          <p:nvPr/>
        </p:nvPicPr>
        <p:blipFill>
          <a:blip r:embed="rId1"/>
          <a:stretch/>
        </p:blipFill>
        <p:spPr>
          <a:xfrm>
            <a:off x="0" y="56664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Screen shot 2010-12-13 at 8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9:18:58Z</dcterms:created>
  <dc:creator>Parkland High School</dc:creator>
  <dc:description/>
  <dc:language>en-US</dc:language>
  <cp:lastModifiedBy>test</cp:lastModifiedBy>
  <dcterms:modified xsi:type="dcterms:W3CDTF">2014-10-30T16:31:44Z</dcterms:modified>
  <cp:revision>2</cp:revision>
  <dc:subject/>
  <dc:title>4.2</dc:title>
</cp:coreProperties>
</file>